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2366-1ED3-4F6B-BECB-9198BB25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048B-BEBE-4371-AC57-A76E8933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3BF8-456E-43DC-BC53-5EBB258C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1DC3-81A6-4D3B-97ED-A7AD367B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FEE-382D-4FFC-A0C6-2E686682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1C51-6A9F-49BB-BBA8-0C170B5F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5226-7DB1-49C7-9F73-FBF30E86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A209-0867-4C31-8F07-27BE7C7D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F41-AD98-4130-9248-CD841888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7546-F9E6-4E92-BCCF-948FF36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04D7-099F-43D6-80D7-4539C91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24FD-6E23-48AA-BF71-11B3951E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7288-CDED-41CB-B72D-48BE093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AC0-A0E3-4C7F-A0F9-ACAFBD2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E9A7-E207-444B-ABE4-E163A887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C599-48F1-4364-B206-F4FEC468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CA0-1861-4266-B153-79FF1E88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02C3-8D8F-433D-A73B-6A399C5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3147-E8DC-40DA-AE71-BBE5596E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F561-CE22-4857-A3C9-0C0276E2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85F7-E895-4DD5-B1A0-A5925CE0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75F5-198A-4F23-AD8D-54F5B55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9939-438D-492B-955A-4EA1D0D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C201-4B67-4054-95EB-366B02F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F64A-645D-4C0D-86DE-3953519FD7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F0C8-BD93-4C22-A87A-F068719DC7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197840" cy="104436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50000">
                <a:srgbClr val="fefefe"/>
              </a:gs>
              <a:gs pos="100000">
                <a:srgbClr val="6666ff"/>
              </a:gs>
            </a:gsLst>
            <a:lin ang="8100000"/>
          </a:gra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b89"/>
                </a:solidFill>
                <a:latin typeface="Arial"/>
              </a:rPr>
              <a:t>Year 8 - IC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55640" y="213336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with Powerpoi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hemes &amp; master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movement – animations /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box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dvantages of using a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lide design or theme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rcRect l="0" t="13585" r="0" b="11611"/>
          <a:stretch/>
        </p:blipFill>
        <p:spPr>
          <a:xfrm>
            <a:off x="250920" y="1844640"/>
            <a:ext cx="83325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a slide mas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rcRect l="15770" t="0" r="19355" b="15898"/>
          <a:stretch/>
        </p:blipFill>
        <p:spPr>
          <a:xfrm>
            <a:off x="1763640" y="1197000"/>
            <a:ext cx="532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4690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stom animation within slid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rcRect l="79527" t="11611" r="0" b="6684"/>
          <a:stretch/>
        </p:blipFill>
        <p:spPr>
          <a:xfrm>
            <a:off x="6516720" y="260280"/>
            <a:ext cx="1996920" cy="59770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 flipH="1">
            <a:off x="3276720" y="1413000"/>
            <a:ext cx="324000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70880" y="2133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1773360"/>
            <a:ext cx="324000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42600" y="2557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48000" y="2421000"/>
            <a:ext cx="3240000" cy="93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486520" y="32068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013000"/>
            <a:ext cx="309564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87240" y="47912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ploring movement –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 consistent, don’t overdo it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s between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some examples yourself (you need to setup a simple presentation with 3 slid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32000" y="2708280"/>
            <a:ext cx="1511280" cy="165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27640" y="2708280"/>
            <a:ext cx="1511280" cy="165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81440" y="2708280"/>
            <a:ext cx="1511280" cy="165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4328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9272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Tas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-83520" y="1647720"/>
            <a:ext cx="956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slide show with 3 slides which explains your life 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utobiographical information). Make sure you u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ide 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s between slides and animation within the 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either from file or clip-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2:53:41Z</dcterms:created>
  <dc:creator>assistanthead-sec</dc:creator>
  <dc:description/>
  <dc:language>en-US</dc:language>
  <cp:lastModifiedBy>jmarshall</cp:lastModifiedBy>
  <dcterms:modified xsi:type="dcterms:W3CDTF">2008-02-21T23:32:18Z</dcterms:modified>
  <cp:revision>4</cp:revision>
  <dc:subject/>
  <dc:title>Year 8 - ICT</dc:title>
</cp:coreProperties>
</file>